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B564-FC33-49AE-A808-88AC01DEBBB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9176-9349-40CD-B7B9-01B72F0ECA4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AFD7-4125-4536-A8FE-C899391327B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C9E5-4589-4E58-941D-7F7D841555D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D027-81D8-4873-B8BE-5A2A9D6A5CB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22A2-EE6E-4A93-AF3C-09A4DF16245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F6A8-B302-4B18-B673-ADD304FAE4A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请问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254160" y="5100480"/>
            <a:ext cx="627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请问</a:t>
            </a:r>
            <a:r>
              <a:rPr b="1" lang="en-US" sz="6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你家在哪儿？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말씀 좀 묻겠습니다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qǐngwè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离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25992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学校离这儿远吗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에서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부터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í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这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在这儿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여기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è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115920" y="5128200"/>
            <a:ext cx="627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学校离这儿很远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멀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uǎ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医院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我去医院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병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īyu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学校离这儿很</a:t>
            </a:r>
            <a:r>
              <a:rPr b="1" lang="zh-CN" sz="6400" spc="-1" strike="noStrike">
                <a:solidFill>
                  <a:srgbClr val="000000"/>
                </a:solidFill>
                <a:latin typeface="SimSun"/>
                <a:ea typeface="SimSun"/>
              </a:rPr>
              <a:t>近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가깝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ì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怎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怎么去东大门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어떻게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ěnm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东大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怎么去东大门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동대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ōngdà M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坐公共汽车去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버스 등을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타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uò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굴림"/>
              </a:rPr>
              <a:t>公共汽车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213840" y="514584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굴림"/>
              </a:rPr>
              <a:t>201</a:t>
            </a: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路公共汽车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버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69428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굴림"/>
              </a:rPr>
              <a:t>gōnggòng qìchē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坐几路车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버스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노선번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ù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洗手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洗手间在哪儿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화장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ǐshǒuji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车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车来了。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자동차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ē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4392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骑自行车去学校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495840"/>
            <a:ext cx="6267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자전거 등을</a:t>
            </a: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타다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qí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自行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骑自行车回家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자전거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ìxíngchē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地铁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142560" y="5100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坐地铁去东大门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지하철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ìtiě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火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5"/>
          <p:cNvSpPr/>
          <p:nvPr/>
        </p:nvSpPr>
        <p:spPr>
          <a:xfrm rot="10800000">
            <a:off x="213840" y="501120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坐火车回家</a:t>
            </a: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기차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uǒchē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飞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坐飞机去北京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비행기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fēijī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火车站在哪儿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역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右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右边就是火车站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오른쪽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òubia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学校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 Box 5"/>
          <p:cNvSpPr/>
          <p:nvPr/>
        </p:nvSpPr>
        <p:spPr>
          <a:xfrm rot="10800000">
            <a:off x="0" y="501084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在学校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학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uéxià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北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怎么去北京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베이징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ěijī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在哪儿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에 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上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怎么上学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등교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àngxu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000000"/>
                </a:solidFill>
                <a:latin typeface="SimSun"/>
                <a:ea typeface="SimSun"/>
              </a:rPr>
              <a:t>着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我走着去学校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 Box 6"/>
          <p:cNvSpPr/>
          <p:nvPr/>
        </p:nvSpPr>
        <p:spPr>
          <a:xfrm rot="10800000">
            <a:off x="403200" y="6495840"/>
            <a:ext cx="6267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하면서</a:t>
            </a: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. ~</a:t>
            </a: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한 채로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哪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洗手间在哪儿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어디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ǎ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服务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是服务员吗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종업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fúwùyuá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一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5800" spc="-1" strike="noStrike">
                <a:solidFill>
                  <a:srgbClr val="000000"/>
                </a:solidFill>
                <a:latin typeface="굴림"/>
              </a:rPr>
              <a:t>一</a:t>
            </a:r>
            <a:r>
              <a:rPr b="1" lang="zh-CN" sz="5800" spc="-1" strike="noStrike">
                <a:solidFill>
                  <a:srgbClr val="000000"/>
                </a:solidFill>
                <a:latin typeface="SimSun"/>
                <a:ea typeface="SimSun"/>
              </a:rPr>
              <a:t>直</a:t>
            </a:r>
            <a:r>
              <a:rPr b="1" lang="zh-CN" sz="5800" spc="-1" strike="noStrike">
                <a:solidFill>
                  <a:srgbClr val="000000"/>
                </a:solidFill>
                <a:latin typeface="굴림"/>
              </a:rPr>
              <a:t>走，左边就是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곧장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ìzhí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一</a:t>
            </a:r>
            <a:r>
              <a:rPr b="1" lang="zh-CN" sz="7200" spc="-1" strike="noStrike">
                <a:solidFill>
                  <a:srgbClr val="000000"/>
                </a:solidFill>
                <a:latin typeface="SimSun"/>
                <a:ea typeface="SimSun"/>
              </a:rPr>
              <a:t>直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走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걷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ǒ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左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洗手间在左边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왼쪽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uǒbia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洗手间就在那儿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바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ù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5:05:25Z</dcterms:modified>
  <cp:revision>179</cp:revision>
  <dc:subject/>
  <dc:title>슬라이드 1</dc:title>
</cp:coreProperties>
</file>